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283-FA34-401E-8AC0-0DCE2D9D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E0D-C63B-4A71-8411-C8B03F86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152-A1F6-438C-980C-039A33BC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B0D-418C-4197-BD83-10431C93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F84-51A5-43B9-A88A-AE18D9C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9D4-DE2F-4775-B1B3-63B246E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FB4-3ED7-454E-82D0-103BF01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07E-09B6-4FF9-B6B9-B5D3EA1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18C-2770-40AA-978A-0698AB0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B89-AC9B-49E6-BCA7-5445FD6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A16-9BEB-40EA-B5BB-E9C9F176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C33-A832-49B2-A9CC-E3B9882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A0D-D724-409F-B48C-66623A27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38240"/>
            <a:ext cx="9147240" cy="7134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Bookman Old Style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Радостни са днеска нашите сърц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свободни от земни грижи, суети;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 ден се събират Божиите деца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 да хвалят Бога с песни си св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1440"/>
            <a:ext cx="9144000" cy="686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Не камбанения сладък, хубав звън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тегли ни при Бога, привлича ни тук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до нас, що се молим пред Божия трон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небе достига Божи дивен зву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47160"/>
            <a:ext cx="914076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бравете днес вий земните грижи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земете от Духа Божи благодат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всеки при Бога да се приближи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и ден по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ен, от вси дни най-св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000"/>
            <a:ext cx="9144000" cy="667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сички днес дойдете с радостни сър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близ и далеко по световний шар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Повдигнете горе вашите ли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служете вярно на всевишний Ц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8:51:46Z</dcterms:created>
  <dc:creator>TrifonTrifonow</dc:creator>
  <dc:description/>
  <dc:language>en-US</dc:language>
  <cp:lastModifiedBy>TrifonTrifonow</cp:lastModifiedBy>
  <dcterms:modified xsi:type="dcterms:W3CDTF">2005-11-21T12:41:30Z</dcterms:modified>
  <cp:revision>11</cp:revision>
  <dc:subject/>
  <dc:title>Slide 1</dc:title>
</cp:coreProperties>
</file>